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FE8A-59DB-4D0C-A297-A324324B3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EBC2-9EC1-4483-AB19-48CA83CA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529A-0014-4DAD-A541-2644FCEA8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2F0F-5BA7-4778-8298-6A4589522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C253-223B-479B-BC8C-1238494E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5057-A139-490A-BFDC-65DE0BE8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19A1-86BA-4511-B070-4B23D148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B4D1-3B52-4471-9FFB-C4D0FD1B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017B-E7C5-4936-BAE9-D309C213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68EF-41AA-45E9-9990-0FBDB100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F1A1-AE27-4944-AAA3-1981CD37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E2C3-6EC0-4C3F-8FD3-F1508319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8995-4C91-4EC3-9F4C-F584E2FBFDBA}" type="slidenum"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BenQ Confidential Tuesday, February 07, 200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Jerry Milestones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82580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M0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3/02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0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8/02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M1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1/03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15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5/04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2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04/07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25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01/08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3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31/08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PS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4/09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DS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8/09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M3/S4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6/10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5" name=""/>
          <p:cNvSpPr/>
          <p:nvPr/>
        </p:nvSpPr>
        <p:spPr>
          <a:xfrm>
            <a:off x="4861080" y="981000"/>
            <a:ext cx="367164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6:09:31Z</dcterms:created>
  <dc:creator>BMLaha</dc:creator>
  <dc:description/>
  <dc:language>en-US</dc:language>
  <cp:lastModifiedBy>Lars Bonde</cp:lastModifiedBy>
  <dcterms:modified xsi:type="dcterms:W3CDTF">2006-02-10T09:21:34Z</dcterms:modified>
  <cp:revision>60</cp:revision>
  <dc:subject/>
  <dc:title>Jerry - DL</dc:title>
</cp:coreProperties>
</file>